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2BB5-71AA-4CD4-8992-F66A52100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Character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About events in our l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About what we 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ination of the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based on materials students expl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facilitates research and organization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DC7F-D41E-4442-A3EF-5EEA4D952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1F3-B6D1-4DEC-9957-26240619D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C7D3-271D-4BA7-8A90-A992A00D5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59AB-EA60-4BD9-87AD-7F2C9652D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31E0-505C-4A38-890B-C692A9380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00CC-78F1-479D-AF10-E6E29576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B9C-1157-4E18-9A3F-551DB3B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ECE-A443-40C5-ABB1-F6881CE1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D06-3A29-4A67-9B06-1F603CE6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FF8D-EF9E-4483-84E5-95444681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56BA-685A-4FC9-86D5-24C58A7B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1E7-1293-4D5F-960A-D04A97EB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0755-6563-4826-9F56-DC3540BA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E777-DADB-4FF2-8544-2BB999AE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0CD8-7E91-4416-B754-FB9488C0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2B6F-728F-4309-AC2F-2B4CDA64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2E4-0E40-45E9-92C0-4D6AE159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0FCD-F18C-423C-8E20-E672AD0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8B1-3B0F-4F03-A6DF-2224C78A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FE08-2B86-4AF8-A32D-585520CE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AF53-A6C5-4254-9BA7-84AE0C1A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F61E-9E2A-4FDA-8730-C01830B4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C59A5-D1DF-43FF-BF62-F560CEAC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54803-6DC1-4915-8EB8-2980EFC5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D8774-00F0-471A-BD21-E7B0B70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C8F37-30CA-4FBE-B3F1-12EE4B6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FF25A-4409-4227-A1D6-B8496705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BF2-D982-4C51-86CD-B7C1A367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D5CEA-A717-4C30-9801-A59EE4D7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ABD67-8949-4BE6-AC94-A5029A48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A94B6-580B-48F5-9FB1-06724E2E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19EC3-E796-4DF5-BB3C-9BE1C1F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1FDB4-F135-4FF8-84CF-E01EEC97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B70A6-9B15-4CC6-8C88-7019266C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D5207-B253-4781-A489-C75BDFE8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537B1-4736-4925-96C8-EF86DB1D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DDC01-9599-4DC7-B0C7-588B14D8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DC5DC-9F00-4E4F-982A-AAF8E468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B8E-45D4-4F16-B065-C3CAA62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D558D-FE81-4CAD-902A-1A75DF12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4B209-0493-471C-8151-D2484A0A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07097-62D2-4B21-AF15-37384D34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05F54-246C-48B0-B667-3D9E176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B8FD65-252C-4630-BF46-28483C5C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558693-BD94-4701-9D19-CB9348B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5B371-D5DF-4D60-B1F4-629DA623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445B8E-27AE-4BEA-93C1-0983F5BF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934A5-66CE-4DF1-AA8D-FEBB3A58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148F6-753A-4B1B-8D2F-1CF50816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32B-3834-40EB-92AD-85F728B7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79D8A-9569-4B03-A0F4-C373309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7D0B50-F144-4BA5-9769-57BCC6E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1D202-0262-4D0B-BA13-B8F3E873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5C1EA-D4D6-42C4-ADB1-397D7EC8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4DF33-3BE1-470A-9E47-345D1660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B76AA-98EB-4F81-99B0-3AF7EB7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9309A-293E-4E53-AADC-C7A161E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5F020-A1D6-4359-BB99-4A58A913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2003D-694D-417E-969C-3D9D6C95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BE57F-A329-49B6-B584-A278750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7FB-61D2-43E8-AF01-CA66F6EC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84E36-57F3-4660-B9A9-25A2F121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9CE46-D183-4C35-850A-0B1C1F48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07544-1CC8-4056-A643-1EC256C9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B38B6-CB3D-460F-B23C-47584EC0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E65A4-33EE-4C1C-B7CE-1B2F0233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1FF31-E70E-47E9-838F-4DDB74A3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4DBF4-E907-48E0-97CC-0DCD4F86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AEF74-CF2E-4CF2-85F1-107B094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49F5-A9F4-446C-8578-EAB3467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06F0F-0018-46F6-B838-4F1DBDED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936-7944-440A-8494-3F74B05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39EB7-9BED-49F9-ACA8-4D719B1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AA0B7-E6D2-4B3A-8F41-E6355E79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2A91-77FF-4E9F-8C7E-C4972F65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24039F-C63C-404E-A527-500BFAA4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829C71-58AE-4836-A007-A7CBAF26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F130E-54EE-429D-AAD2-93EBF9E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3114F-D494-42E0-BDEA-CF5EAD08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5767D-BA25-46E4-9F37-9AC5F9C9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29E0F-FFF6-4B5B-8142-84AEAC16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8F7CEB-7ACE-4A93-942E-F4C4C839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6FE-840B-45E7-AF48-B187BC22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A12D4-39E1-47CE-B21B-ACF17E8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8B613-0009-4A9F-A137-51FBC2A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C86FB-9195-4526-8AC6-CF50F370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CAFED-E634-4ACE-B52D-3EBB1CE0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2927C-E074-48AA-A56A-D11B15FC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1D306-BFCF-43B8-AAB1-7E20B6B1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5FD33-FB55-4A28-94BA-B054D47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75A64-CEA2-4185-BF4F-1E5D4FE9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DE640-DB5A-4F73-B683-25ADB5EA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4DA4C-9999-4057-AB59-C4AE62B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B54-9687-46D3-AAA2-065FEEA8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C1400-2953-4854-BF34-39787A8A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FD80-B917-49EC-B9AF-9FB0F88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2D63D-9EE3-4093-B3FE-715C50C8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1D7BE-E735-4BF5-AA23-5E37ECD3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A04C4-EE29-40C5-96FE-7D1302DF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0803B-3C36-474E-A10B-A247CACB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6B0D-4605-4AF6-ABA3-5EAD697B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006A-D768-45F2-BA63-D7156F1A13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D89B-224A-46BE-B9CF-81859531BAC3}" type="slidenum">
              <a:rPr b="1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7A57-2DE8-4FAD-AD0F-A0C29ADC684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A70A-E3E2-42A7-B7CE-E253249B95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9331-0618-4222-90D1-F065D330BF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E175-DD08-4B48-BC19-592059DD9CEF}" type="slidenum">
              <a:rPr b="1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D870-982A-4039-B23D-C61F639BAC1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319-35BE-487E-8101-F6EE64CC09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Tw Cen MT"/>
              </a:rPr>
              <a:t>DIGITAL STORIES &amp; MOVIEMAKER AGENDA</a:t>
            </a:r>
            <a:endParaRPr b="0" lang="en-US" sz="40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What is digital storytelling?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assroom Integratio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lip Camera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Video Shoo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opyright &amp; Creative Common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reate YOUR Digital STORY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9f293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Movie Premieres Created by YOU!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3" descr="C:\Program Files\Microsoft Office\Media\CntCD1\ClipArt2\j0232096.wmf"/>
          <p:cNvPicPr/>
          <p:nvPr/>
        </p:nvPicPr>
        <p:blipFill>
          <a:blip r:embed="rId1"/>
          <a:stretch/>
        </p:blipFill>
        <p:spPr>
          <a:xfrm>
            <a:off x="5943600" y="1523880"/>
            <a:ext cx="2451240" cy="2264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assroom Integra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9f2936"/>
          </a:solidFill>
          <a:ln cap="sq" w="50760">
            <a:solidFill>
              <a:srgbClr val="9f2936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ypes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ersonal Narrat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xamination of theme or even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o Inform or Instruc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bining the art of telling stories with some mixture of digital graphics, text, recorded audio narration, video and music to present information on a specific topi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olve around a theme and often contain a particular viewpoint; stories are typically just a few minutes lo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Tw Cen MT"/>
              </a:rPr>
              <a:t>Stories Created by Teachers Can Serve: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Lesson Hoo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Way to Integrate Multimedia into the Curriculum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a Way to Make Difficult Content More Understandab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Facilitate Classroom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5" descr="C:\Documents and Settings\Administrator.2SDL741\Local Settings\Temporary Internet Files\Content.IE5\N96FXHYY\MPj04395450000[1].jpg"/>
          <p:cNvPicPr/>
          <p:nvPr/>
        </p:nvPicPr>
        <p:blipFill>
          <a:blip r:embed="rId1"/>
          <a:stretch/>
        </p:blipFill>
        <p:spPr>
          <a:xfrm>
            <a:off x="4876920" y="4008600"/>
            <a:ext cx="4267080" cy="28494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Verdana"/>
              </a:rPr>
              <a:t>An Effective Learning Tool for Students</a:t>
            </a:r>
            <a:endParaRPr b="0" lang="en-US" sz="36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123720" y="1676520"/>
            <a:ext cx="342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search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riting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rganization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chnology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esentation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terview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blem-Solving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ssessment Skil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Picture 2" descr="C:\Program Files\Microsoft Office\Media\CntCD1\ClipArt3\j0239011.wmf"/>
          <p:cNvPicPr/>
          <p:nvPr/>
        </p:nvPicPr>
        <p:blipFill>
          <a:blip r:embed="rId1"/>
          <a:stretch/>
        </p:blipFill>
        <p:spPr>
          <a:xfrm>
            <a:off x="457200" y="4648320"/>
            <a:ext cx="1808280" cy="1487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Program Files\Microsoft Office\Media\CntCD1\ClipArt6\j0297243.wmf"/>
          <p:cNvPicPr/>
          <p:nvPr/>
        </p:nvPicPr>
        <p:blipFill>
          <a:blip r:embed="rId2"/>
          <a:stretch/>
        </p:blipFill>
        <p:spPr>
          <a:xfrm>
            <a:off x="533520" y="19810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C:\Program Files\Microsoft Office\Media\CntCD1\ClipArt3\j0233962.wmf"/>
          <p:cNvPicPr/>
          <p:nvPr/>
        </p:nvPicPr>
        <p:blipFill>
          <a:blip r:embed="rId3"/>
          <a:stretch/>
        </p:blipFill>
        <p:spPr>
          <a:xfrm>
            <a:off x="6248520" y="1600200"/>
            <a:ext cx="2430360" cy="2370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C:\Program Files\Microsoft Office\Media\CntCD1\ClipArt1\j0174133.wmf"/>
          <p:cNvPicPr/>
          <p:nvPr/>
        </p:nvPicPr>
        <p:blipFill>
          <a:blip r:embed="rId4"/>
          <a:stretch/>
        </p:blipFill>
        <p:spPr>
          <a:xfrm>
            <a:off x="6858000" y="4572000"/>
            <a:ext cx="182232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Documents and Settings\Administrator.2SDL741\Local Settings\Temporary Internet Files\Content.IE5\N96FXHYY\MPj04393260000[1].jpg"/>
          <p:cNvPicPr/>
          <p:nvPr/>
        </p:nvPicPr>
        <p:blipFill>
          <a:blip r:embed="rId1"/>
          <a:stretch/>
        </p:blipFill>
        <p:spPr>
          <a:xfrm>
            <a:off x="4143240" y="2971800"/>
            <a:ext cx="5000760" cy="38862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Verdana"/>
              </a:rPr>
              <a:t>Student Literacy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gital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lobal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chnology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sual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ormation Litera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Video Shoot Choices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ts of Speec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plore the schoo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Work with a partner or sol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ct it ou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objects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844520" y="1589040"/>
            <a:ext cx="4070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create a Sce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xplore the schoo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yourself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se objects to represent people or ev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Content Placeholder 5"/>
          <p:cNvSpPr/>
          <p:nvPr/>
        </p:nvSpPr>
        <p:spPr>
          <a:xfrm>
            <a:off x="4876920" y="4572000"/>
            <a:ext cx="4070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3 Word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Your message to the world in 3 word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Content Placeholder 5"/>
          <p:cNvSpPr/>
          <p:nvPr/>
        </p:nvSpPr>
        <p:spPr>
          <a:xfrm>
            <a:off x="457200" y="4484520"/>
            <a:ext cx="407052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uess Who I Am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amous people in histor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mportant people around the schoo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2:38:01Z</dcterms:created>
  <dc:creator>Administrator</dc:creator>
  <dc:description/>
  <dc:language>en-US</dc:language>
  <cp:lastModifiedBy>132jonesli</cp:lastModifiedBy>
  <dcterms:modified xsi:type="dcterms:W3CDTF">2010-06-02T16:51:12Z</dcterms:modified>
  <cp:revision>24</cp:revision>
  <dc:subject/>
  <dc:title>Photo Story Agenda</dc:title>
</cp:coreProperties>
</file>